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041D-7F78-499E-A380-8BBD038DB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42AE-E0B6-480C-987C-5F017AFC9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509B-ABAF-4F42-B74D-45EE7A39D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0A4E-A53F-4E5E-B71A-70A228E4E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5217-EC87-4E99-9310-010896E9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FD77-B755-4CDE-BE14-850DFE76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DE3E-9FF5-460E-A9EF-AA6BA57B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DC64-09A5-4C57-B375-ED520345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D04F-E721-477E-B93B-6793C357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2D1F-5641-454A-A1DB-C099D377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8C2F-117C-46EC-AA5B-11FC0E02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871F-9848-4D5D-BC69-4B8015A2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A647-7797-46B4-8541-1B1BEF21052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B917-F380-4C64-B7C7-AAE8B18E4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6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2.xml"/><Relationship Id="rId11" Type="http://schemas.openxmlformats.org/officeDocument/2006/relationships/slide" Target=""/><Relationship Id="rId12" Type="http://schemas.openxmlformats.org/officeDocument/2006/relationships/slide" Target="slide14.xml"/><Relationship Id="rId13" Type="http://schemas.openxmlformats.org/officeDocument/2006/relationships/slide" Target=""/><Relationship Id="rId14" Type="http://schemas.openxmlformats.org/officeDocument/2006/relationships/slide" Target="slide16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slide20.xml"/><Relationship Id="rId19" Type="http://schemas.openxmlformats.org/officeDocument/2006/relationships/slide" Target=""/><Relationship Id="rId20" Type="http://schemas.openxmlformats.org/officeDocument/2006/relationships/slide" Target="slide22.xml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slide" Target=""/><Relationship Id="rId27" Type="http://schemas.openxmlformats.org/officeDocument/2006/relationships/slide" Target=""/><Relationship Id="rId28" Type="http://schemas.openxmlformats.org/officeDocument/2006/relationships/slide" Target="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slide" Target=""/><Relationship Id="rId32" Type="http://schemas.openxmlformats.org/officeDocument/2006/relationships/slide" Target=""/><Relationship Id="rId33" Type="http://schemas.openxmlformats.org/officeDocument/2006/relationships/slide" Target=""/><Relationship Id="rId34" Type="http://schemas.openxmlformats.org/officeDocument/2006/relationships/slide" Target=""/><Relationship Id="rId35" Type="http://schemas.openxmlformats.org/officeDocument/2006/relationships/slide" Target=""/><Relationship Id="rId3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$ 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Garamond"/>
                <a:hlinkClick r:id="rId2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Garamond"/>
                <a:hlinkClick r:id="rId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Garamond"/>
                <a:hlinkClick r:id="rId6" action="ppaction://hlinksldjump"/>
              </a:rPr>
              <a:t>4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Garamond"/>
                <a:hlinkClick r:id="rId8" action="ppaction://hlinksldjump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Garamond"/>
                <a:hlinkClick r:id="rId10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Garamond"/>
                <a:hlinkClick r:id="rId12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Garamond"/>
                <a:hlinkClick r:id="rId1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Garamond"/>
                <a:hlinkClick r:id="rId16" action="ppaction://hlinksldjump"/>
              </a:rPr>
              <a:t>4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Garamond"/>
                <a:hlinkClick r:id="rId18" action="ppaction://hlinksldjump"/>
              </a:rPr>
              <a:t>5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Garamond"/>
                <a:hlinkClick r:id="rId20" action="ppaction://hlinksldjump"/>
              </a:rPr>
              <a:t>1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22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23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24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5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5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26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7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8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4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9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5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30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31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2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2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3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33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4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5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35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$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aramond"/>
              </a:rPr>
              <a:t>Po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oot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Social Stud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Rea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Gladiator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Sc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Rea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Ecosystem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a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68580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is the </a:t>
            </a:r>
            <a:r>
              <a:rPr b="1" lang="en-US" sz="7200" spc="-1" strike="noStrike">
                <a:solidFill>
                  <a:srgbClr val="ffffcc"/>
                </a:solidFill>
                <a:latin typeface="Times New Roman"/>
              </a:rPr>
              <a:t>tone 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in the poem “It Couldn’t Be Done”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167652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1295280"/>
            <a:ext cx="6324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determination and perseveranc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990720"/>
            <a:ext cx="5791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29528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root word means “to hear”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1981080"/>
            <a:ext cx="563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audi”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457200"/>
            <a:ext cx="7391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root words means “see, look”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95280" y="4191120"/>
            <a:ext cx="5943600" cy="2133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12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AILY DOUB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12193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vis” and “spect”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71600" y="533520"/>
            <a:ext cx="6400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root words mean “voice, call”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1066680"/>
            <a:ext cx="5486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voc” and “vok”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2193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1600200"/>
            <a:ext cx="76197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71600" y="762120"/>
            <a:ext cx="6248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root words mean “to write”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52480" y="1600200"/>
            <a:ext cx="5943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990720"/>
            <a:ext cx="48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scrip” and “script”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47920" y="914400"/>
            <a:ext cx="6324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How many stanzas are there in the poem “It Couldn’t Be Done”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1447920"/>
            <a:ext cx="655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root words mean “to speak”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3880" y="1752480"/>
            <a:ext cx="6705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1828800"/>
            <a:ext cx="6248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05120" y="1371600"/>
            <a:ext cx="5181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locu” and “loqu”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00200" y="175248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838080"/>
            <a:ext cx="6858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47920" y="1066680"/>
            <a:ext cx="6172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67040" y="990720"/>
            <a:ext cx="5211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ere did the gladiator games originat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167652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Rom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304920"/>
            <a:ext cx="8686800" cy="7617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762120"/>
            <a:ext cx="6858000" cy="56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was a gladiator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75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o were the gladiator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75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457200"/>
            <a:ext cx="6858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28800" y="1219320"/>
            <a:ext cx="5334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304920"/>
            <a:ext cx="891540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gladiator was the superstar of the gladiator games or “blood” gam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adiators were often prisoners of war, convicted criminals, poor men with little chance of a comfortable life, or thrill-seekers who wanted adventu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990720"/>
            <a:ext cx="739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685800"/>
            <a:ext cx="655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were the three types of gladiator game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523880" y="4419720"/>
            <a:ext cx="5943600" cy="2133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12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AILY DOUB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71600" y="1600200"/>
            <a:ext cx="6324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65040"/>
            <a:ext cx="7848720" cy="53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n-against-man events – two men fought each 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n-against-animal events - an animal was pitted against a m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imal-against-animal events – two wild animals fought each 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1219320"/>
            <a:ext cx="8915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were the two reasons for gladiator games to en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05120" y="914400"/>
            <a:ext cx="5943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1066680"/>
            <a:ext cx="86104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was too expensive to pay for structures and costum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fluence of Christianity – which opposed to the killing of human being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828800" y="1600200"/>
            <a:ext cx="5867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438280" y="228600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Thre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1219320"/>
            <a:ext cx="914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1219320"/>
            <a:ext cx="7696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y did the Roman citizens not feel the games were barbaric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1066680"/>
            <a:ext cx="6781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y felt that these were men who had been condemned to death anyway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81080" y="1523880"/>
            <a:ext cx="5410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90720" y="1371600"/>
            <a:ext cx="701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is an ecosystem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1600200"/>
            <a:ext cx="5867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osystems are groups of life forms that interact with each other and the nonliving parts of the environme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066680"/>
            <a:ext cx="7086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are the three different types of forest ecosystem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95280" y="838080"/>
            <a:ext cx="60962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Hardwood, evergreen, and tropical rain fores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1066680"/>
            <a:ext cx="6934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ich ecosystems provide a home for wildlif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295280" y="4343400"/>
            <a:ext cx="5943600" cy="2133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12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AILY DOUB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15" name=""/>
          <p:cNvSpPr/>
          <p:nvPr/>
        </p:nvSpPr>
        <p:spPr>
          <a:xfrm>
            <a:off x="1752480" y="1143000"/>
            <a:ext cx="60962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447920" y="1302120"/>
            <a:ext cx="6248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opical rain forests, deserts, grasslands, coastal and tundra ecosyst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600200"/>
            <a:ext cx="91440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How are the tropical rainforests beneficial?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hree way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447920" y="988200"/>
            <a:ext cx="6248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Help clean the ai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Provide homes for wildlif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Supply us with fruits, nuts, and medicin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1600200"/>
            <a:ext cx="4648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16765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685800"/>
            <a:ext cx="6934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n the poem “Weather”, </a:t>
            </a:r>
            <a:br>
              <a:rPr sz="5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Dot a dot dot dot a dot dot”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Spack a spack speck,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ick a flack fleck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” is what type of figurative speech?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00200" y="838080"/>
            <a:ext cx="6324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228600"/>
            <a:ext cx="716256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are the seven different types of ecosystems listed in the reading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w are ecosystems different based on their locati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447920" y="877320"/>
            <a:ext cx="6248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forest, coastal, desert, grassland, tundra, freshwater, and oce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Each ecosystem has a particular type of climate and different types of soi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362320" y="1371600"/>
            <a:ext cx="48765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0"/>
            <a:ext cx="7772400" cy="75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eading #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e down “F” if it is fact or “I” if it is inferen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r. Beren noticed a large green parrot in a ca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r. Beren was curiou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parrot’s behavior amused Mr. Ber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685800"/>
            <a:ext cx="73915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Fac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5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Inferenc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5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Inferenc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838080"/>
            <a:ext cx="91440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ading #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main idea of this paragraph 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usiness meetings in ancient R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ublic bathhouses in ancient R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corations in Roman bathhou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Romans got clean long ag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95280" y="1219320"/>
            <a:ext cx="6324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b.  Public bathhouses in ancient Rom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762120"/>
            <a:ext cx="88390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Reading #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3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at do you think Rosario’s job i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3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ere do you think Rosario live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838080"/>
            <a:ext cx="7086600" cy="41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teacher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clue:  grading papers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big city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clue: horns honking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04920"/>
            <a:ext cx="8915400" cy="60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ding #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phrase best reflects the writer’s point of view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5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ing of the dog trea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set with the hot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raged about so much attention being given to do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word in the passage is a clue to how the writer feels about the hotel servic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 wonderful  b.  healthy  c.  exce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990720"/>
            <a:ext cx="81532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approving of the dog treatmen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5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onderful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1523880"/>
            <a:ext cx="5790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20574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allitera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609480"/>
            <a:ext cx="8153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0"/>
            <a:ext cx="8915400" cy="63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#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 this paragraph you ca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lud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vel on the Silk Route was safe and ea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npowder was an unimportant Chinese in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s were also exchanged along the Silk Ro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s charged in the West for silk were too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 the paragraph you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anno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l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kind of land the Silk Route cro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ames of some of the cities along the Silk Ro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goods from the West traders brought to Ch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Chinese first began making si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38080" y="1828800"/>
            <a:ext cx="73152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8600" y="1143000"/>
            <a:ext cx="86104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ideas were also exchanged along the Silk Rou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7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b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the names of some of the cities along the Silk Rou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1066680"/>
            <a:ext cx="755964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the poem “First Snow”, “The bushes look like popcorn balls” is what type of figurative speec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Why are the bushes compared to popcorn bal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1066680"/>
            <a:ext cx="4952880" cy="62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m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shes and popcorn balls are being compared because the popcorn balls will give us a picture in our minds what the bushes look lik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685800"/>
            <a:ext cx="8915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0"/>
            <a:ext cx="6781680" cy="65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poem “Dreams” and “Snowboarding”, these statements are examples of what figurative spee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 is a broken-winged bird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now is butter”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am a bulle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poem “Noises”, these phrases are examples of what figurative spee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queak of a mouse”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woosh of the air”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jingle of the bell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57400" y="1676520"/>
            <a:ext cx="4800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1219320"/>
            <a:ext cx="6705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metaphor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5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onomatopoei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Eleanor M. Savko</dc:creator>
  <dc:description/>
  <dc:language>en-US</dc:language>
  <cp:lastModifiedBy>Brandon Valley School District</cp:lastModifiedBy>
  <dcterms:modified xsi:type="dcterms:W3CDTF">2008-04-04T15:06:22Z</dcterms:modified>
  <cp:revision>56</cp:revision>
  <dc:subject/>
  <dc:title>Blank Jeopardy</dc:title>
</cp:coreProperties>
</file>